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682A-AD3C-46E6-AED6-88D89CA0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2870-EEB1-4490-8E50-1CB29F4BAF16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AB27-F108-4677-B4FA-01D052CE4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B536-89EE-4075-A559-8CBA5D7A8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A208-B6F2-46D2-8EA7-9740FE64D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BC6C-6AD7-44A9-834E-9077D2D9C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D7BDF-35EA-4DA6-853A-80A95D0734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24C69-3683-4763-912E-07C5C356A5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26F69-E356-46E5-9630-1CFE5E5EEB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1FFE2-5942-48A4-AD87-69DD34E355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9245D-AF26-44E8-8F62-6EF8EE275C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190D6-7899-443E-849E-BBB5A673C5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47AA2-C8E0-4500-BB73-B2EBB433A6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ABD1-52F7-4F83-9362-C14B94EDC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6BABA-BBE7-4D75-AD48-6BCDEFB12B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C0F72-B40D-4E95-8E03-48BF3693BB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8B4B1-BB21-4051-80E0-AC3B371AE6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39406-E2A0-4B00-A90E-860178471F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D9F3E-6275-45C0-A9A6-7E25B1C4B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378E-021A-4030-AC1C-53569EF74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647A-56CD-47BA-B728-6460E8E8F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547C-2688-4EEC-8384-92FBFD409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5EB7-9E99-457D-9714-8B2E1D3CD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5A73-8FF7-4CF2-BB7D-BB83FF9B1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405E-2C6C-440D-AB44-5615DF307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B495-8EFC-47F6-A3E2-DF56231F4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FD4EB47-5A4C-4963-A4ED-4377D0E639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ACF2D84-B459-46EB-8EAE-364AA9D495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27CBB83-C05B-4861-8D8F-AF657D3696B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rce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F2AC3D7-45A5-4A4D-8898-8506D79377E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main name is unique address, leading to many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anies in different locations want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ybersquatter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bitration processes exist to deal with  domain name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2FE4E30-0053-4881-9DFE-268579BDEE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dies responsible for registration of domain names (e.g., Canadian Internet Registration Authority) set policy for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 Canadian domain names, bodies like British Columbia International Commercial Arbitration Centre and Resolution Canada Inc. offer arbitr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ld Intellectual Property Organization (WIPO) is largest arbitration service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06064F5-D882-49B8-B0E4-1DA033CB853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amation is most common internet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despread distribution and uncertain jurisdiction make internet cases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son and employer may be 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P may be liable if it fails to remove or block offending messages when required by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F56836C-0C77-4B10-988F-DC36E22B7C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 status of internet transactions determined by contract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ritten copies of online transactions can be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cularly a problem wher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written, signed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B963AD7-2039-47FF-B6F6-5C38B8E58D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- 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vinces enacted statutes based on the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Uniform Electronic Commerce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(UECA) guidelines to recognize electronic documents and sign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tisfy legal requirements for written, signed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fferences among provi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apply to all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42BE532-7DF9-4367-9F16-A67B3E332A9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onsensu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 may state that law of a specified jurisdiction will apply to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licking “I accept” creates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accepted and contract formed when and where offeror learns of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sent when “Send” is h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received when it arrives on recipient’s computer (even if never 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C23CE71-569B-4D07-93B8-E6FB6AFB1A6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fficult to know if other party has capacity to enter into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need more information than simply what appears on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government has guidelines for development, implementation, and use of authentication products and services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A4EDD64-01C9-47B0-8ACE-94BBF213D4D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llegal activities are widespread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les of Goods Acts and consumer protection legislation theoretically apply, but fraudulent scams a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avoid rules in specific jurisdictions by moving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s of scams may have little recourse when perpetrator is in an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30E9150-ACCF-40EB-BDD5-AB9EC391AF8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Pa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payment difficult to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rvices like PayPal may help customer get what was paid for or provide remedy in a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foolproof methods may be overcome by scam ar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D3BD2DD-5604-4E59-800D-C7B13F7E02B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varies by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convince court that it has jurisdiction, plaintiff must show defendant was targeting the location where plaintiff re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may determine matter is not closely enough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should specify what law applies and what court has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734BA41-089D-4FA3-A214-C3023D2BA5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nature of electronic commerce and its impact on business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jurisdictional issues that complicate onlin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specific kinds of tortious conduct that are pervasive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cerns electronic and global business transactions have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C9D3C10-96AB-4A8A-B631-59C5E976011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Dispute Re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blems can be avoided by including arbitr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is a valuable tool for ecommerce disp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umer protection legislation may make terms for mandatory arbitration 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organizations facilitate arbitration of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8DF8FE0-F8BB-44F1-9EAA-241BE8241B2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ng the Inter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tle effective regulation of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still no anti-spam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interested in regulation of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sue of privacy arises if government demands access to certain business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B9EACF0-42D0-4A43-9F6A-12EAB64A370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international court to litigate private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dispute resolution mechanisms only address disputes between sovereign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International Court of Justice (ICJ) and World Trade Organization (W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2B3442F-4EF0-4820-9805-DE7EE95A668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s of international business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 and export of goods (most com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ion of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sion and acquisition of services (e.g., call cen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140564D-D8D6-4BE5-9C65-03579EE889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ations for international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ly-prepared contracts are v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 must comply with government regulations in both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eps must be taken to ensure efficient, cost-effective, and favourable resolution of dispute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F287239-4346-401D-B928-B3E02B0BA1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now who you are contracting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quire services of professional specializing in law of jurisdict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ze certain terms in a contract may be invalid in a specific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D624907-3E32-4B0D-B17F-63393BCC546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should spec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bligations and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lated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mechanism (other than the cou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 that will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that will hav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financial repor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FC799AB-C03B-443E-A25E-36FFE682EC3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eign ownership is likely to involve in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eign ownership may be restricted, creating need for contractual relationships with local 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creases risk and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lementary standard form contracts may be required, depending on nature of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bills of lading, letters of credit,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23B3812-93A2-4676-824A-F599334B7D9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clause can avoid l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disputes be resolved by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pecifies the proces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be overridden by loc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ternate dispute resolution useful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ck of court with international jurisdiction over priv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certainty and risks of court in foreign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1126518-FBCF-47FD-BD68-69163ABB7D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negotiation, mediation, and arbitration increasing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gotiation and mediation are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rbitration is particularly appropriate - Can specify in contract who will arbitrate and what process will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2B17D0A-3FCD-4F32-889E-BF733FF9E1A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difficulties in engaging in international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contractual problems are best resolved in the glob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how international commerce is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jurisdictional issues and enforcement of judicia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9A8A83B-BFAD-4693-8C38-0666563AA99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vantages of arbitration – reduction of risk, respecting mutual obligations and rights, and minima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advantages of arbitration – can be difficult to enforce (but less so n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6310A6B-CB49-4106-8681-D2C189B8E7B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, arbitration awards are now enforceable in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surance to cover transactions can eliminate man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se of PayPal or credit card 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EA75779-E731-4A4A-882C-AD3E49EEE38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dispute involves interests in more than one country, appropriate jurisdiction must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ight of court to hear case may be challenged by application for order of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forum non conveni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d choice of law or jurisdiction can be overru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6F62248-BC0B-479C-AEB0-9067ECBB42F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EC6AF93-F097-4636-AED9-F439D6C6C13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jurisdictions are passing legislation to apply “territorial competence” test to determine court jurisdi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s Supreme Court of Canada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implifies process of determining when local court has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override contrac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1C5FA88-D61B-4D57-907F-A8FFA311113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.C. courts have territorial competence or jurisdiction where there is close connection between province and case facts or where one of three conditions is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agreed court will have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submitted to that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is ordinarily resident in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BFE6A06-A869-4AC3-9378-63E60453F4A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difficult to enforce judgment in another jurisdiction (where losing party has as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by court in one jurisdiction is effective in another jurisdiction only if court there adopt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 problem with foreign jurisdictions, especiall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9BA2929-D894-4C23-BDF5-EF2432C94A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conventions provide for reciprocating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 reciprocating enforcement agreement, person wanting to enforce order must sue on the judgment in the other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cess can be long, complicated,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easier to enforce arbitration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2EE7753-C89E-4BC5-9389-F684F00680D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defences may be raised to prevent enforcement of foreign judgment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blem wit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ces i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in other jurisdictions are often more likely to enforce arbitration aw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940A707-FACC-4D97-8AA2-525D2E0B816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a is party to many international treaties and conventions affecting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treaties encourage free trade  by reducing or eliminating tariffs and du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 business transactions affected by international treaties, professional advice is recomm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5157AF3-6C69-4769-BFDB-8AE1072A248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facilitates business, education, entertainment, and soci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business transactions usually involve third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eBay, PayPal, IS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rmal civil and criminal laws and regulations apply to online transactions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C962F33-F043-470C-96F2-006128452D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 (General Agreement on Tariffs and T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to promote fair trade, encourage balanced competition and prohibit or control abusive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duced 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balance trad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prevent d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D1E1BE8-8446-4A7B-95B0-A6F3B340DC1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favoured nation status” required members grant all other members lowest tariffs charged on similar goods from any 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quired imported goods from member nations be treated same as domestic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2E6B056-C104-4FCC-8D56-529B66B432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(World Trade Organ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GATT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a dispute re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services and intellectual property (as well as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w has 153 memb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89DEB95-5877-44E1-BDD8-A59B621D2F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ent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FTA (North American Free Trade Agre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motes easier trade between Canada, the United States, and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WTO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duties and tariffs reduced or eli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environmental protection provisions,  labour standards, and dispute resolu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vement to include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1C16205-6EC2-40CB-90AD-7EADDACF2E9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a imposes few restrictions on 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ols relate mainly to security, money laundering, and tax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xport and Import Permits Ac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s federal government to restrict certain exports to specific nations (and require per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71D0F51-6C15-4406-8DE7-6AC126E78A1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tatutes regulate specific goods and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government provides support to exporter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d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ort Development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D1511AE-2288-4E75-B858-F6DABAD2F8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s to Canada regulated primarily through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ustom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Border Services Agency (CBSA) enforces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Special Import Measure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Excis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D6F0F35-BE9D-42F6-9197-66DF9E50DD7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s from certai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 of dangerous, hazardous, and environmentally sensitiv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es that import need to determine duties and permits required for specific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E646118-3041-4B84-8468-5A75F5CE661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territorial Re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foreign governments attempt to apply their regulations beyond their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 Patriot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 legislation designed to punish those from other countries doing business with Cu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retaliatory legislation generally ineff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AD529B6-B60C-4867-A147-B8AA3F0811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jor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termining appropriat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ws in place are not readily ada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s have been reluctant to introduce regulation and control, but this is now ch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E806CEC-4695-43AE-B5B4-5A29304DE88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does not recognize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rd to determine which laws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re action should be br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gulations could limit freedom of expression, movement, or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ine transactions raise tax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AB532CB-6337-497E-807C-FCC7B23617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a particular location can exercise jurisdiction if defendant is a resident there or if action underlying the complaint took place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ng-arm statutes may allow jurisdiction even when no resident i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sued where not even aware of the la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464A410-6DDC-4DE6-B988-B9A600E4DD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tter approach: Allow judicial action only where there is a close connection between the jurisdiction and the act complain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elp to state in contract which jurisdiction governs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offer or service should state limitations of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770D51A-510D-4073-8398-66685804618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tario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nsumer Protec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vides rights for anyone located in the province at tim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judgments may be hard to enforce, but it’s dangerous to ignore them as judgments can be enforced in other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2:43Z</dcterms:created>
  <dc:creator>Client Name</dc:creator>
  <dc:description/>
  <dc:language>en-US</dc:language>
  <cp:lastModifiedBy>User</cp:lastModifiedBy>
  <dcterms:modified xsi:type="dcterms:W3CDTF">2012-04-24T16:52:20Z</dcterms:modified>
  <cp:revision>202</cp:revision>
  <dc:subject/>
  <dc:title>Slide 1</dc:title>
</cp:coreProperties>
</file>